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DA5-7410-4E6E-896E-6755CCF3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2E9-E1A0-4E37-8B86-23402AF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95F-6C79-4776-879B-3179F562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73A-14CC-4CD8-9525-FCA7F89C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BD8-884B-43AC-8282-360E792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2AD-4D90-4CC2-AA20-43A7B55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D44-C54D-4D6B-AA81-736354B7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8DD-9F8D-4622-80A3-A825A1A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8DC-E1B0-4BA7-89F2-05C73C4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B85-EDBC-49ED-A846-E15E178D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B15-3E7B-4C21-84B2-39BC4F0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EBB-3F75-4BA5-87DE-B2D2D89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DA7B-6148-4784-9ED0-0823F602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549360"/>
            <a:ext cx="47563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hra Beh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2460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24000" y="0"/>
            <a:ext cx="491652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phra Behn's Lif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276640"/>
            <a:ext cx="83534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was almost certainly born i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y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ar Canterbury, on July, 10 1640 to Bartholomew Johnson, a barber, and Elizabeth Denh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may have had a Catholic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hn was firmly dedicated to the restored King Charles II. As political parties first emerged during this time, Behn was a Tory supporter and she often used her writings to attack the parliamentary Wh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1664 Aphra Johnson married Johan Behn, who was a merchant of German or Dutch extraction but their marriage didn’t last for more than a few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e was reportedly bisexual, and held a larger attraction to women than to men, a trait that, with her writings and references of this nature, would eventually make her popular in the writing and artistic communities of the 20th century and present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y 1666 Behn had become attached to the Court because she was recruited as a political spy to Antwerp by Charles II. Her code name for her exploits is said to have bee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stre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 name under which she subsequently published much of her writ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he became the lover to a prominent and powerful royal, and from him she obtained political secrets to be used to the English advan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ehn's exploits were not profitable; For  period Charles payed for her but then she ended up in a debtor's prison. By 1669 an undisclosed source had paid Behn's debts, and she was released from prison, starting from this point to become one of the first women who wrote for a li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he starting in 1670 she produced many plays and novels, as well as poems and pamphlets. Her most popular works included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he Rov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ove-Letter Between a Nobleman and His Sist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oonok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phra Behn died on April 16, 1689, and was buried in Westminster Abbey. Below the inscription on her tombstone read the words: "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Here lies a Proof that Wit can never be / Defence enough against Mortality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" She was quoted as once stating that she had led a "life dedicated to pleasure and poetry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hra Behn’s writing is unique for its time because of her use of the narrator’s voice and her innovative use of visual deceptions in her plays.She takes on a narrative voice that is characteristically her own by using a removed but somehow still involved narrator in Oroonoko and changing to a different, ironic voice in other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er imagined world is not strictly without men, but sex is entirely on women's terms. Women, in this world, have complete sexual control and a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9:31:56Z</dcterms:created>
  <dc:creator>nicole</dc:creator>
  <dc:description/>
  <dc:language>en-US</dc:language>
  <cp:lastModifiedBy>nicole</cp:lastModifiedBy>
  <dcterms:modified xsi:type="dcterms:W3CDTF">2009-02-25T20:56:54Z</dcterms:modified>
  <cp:revision>2</cp:revision>
  <dc:subject/>
  <dc:title>Diapositiva 1</dc:title>
</cp:coreProperties>
</file>